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92C-44F2-4008-A31C-2913821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4CB-A66F-4403-B5B4-4B3D5042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6EF-8D21-476D-ABEA-CE3BC4B6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4F0-30F4-4835-BD70-CEF9CD32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5FEA-DF4D-421A-AC6D-1C60CFE9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1819-6219-42FC-BAC9-39F877A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9B6-8BBF-41FA-BEE6-FF25917A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D26F-26B0-4875-9F7D-0BEBA546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5F2D-F321-474E-BFF6-0C562134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4120-DA4A-4C87-83D3-65DCB74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6631-BCA8-4E3D-B569-4FF010F8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543-53AF-446E-ACE8-DDA7E2E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3250-1290-4C35-9F95-4F976318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A8A3-89B8-4A4A-A421-A5C0E20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CE99-8009-49B0-9925-D4579D66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B49B-5B73-45CB-8EA6-78A6E9A9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5054-BC69-46BE-9014-B2A1B7DA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7B1DC-1493-40D0-87B3-775811E9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3BD1-6BCB-4681-BEBD-EADDF7EB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23DB-B925-4DDB-8FC9-E3C3BDD4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40B5-10AF-42F9-8AB4-C6594DBB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426A-C41C-4D3E-A714-B41B7AFB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D15-AC93-4B82-BB69-477D5FB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5399-5574-4ACD-B54C-A80D6D95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2DB5-2976-48CB-B0EF-B821AE1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4A07-54DE-411F-BB16-03F1A2F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5FEAE-52C5-4BB5-A5AD-E99D0B8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6CBFB-1CD4-442F-8780-B238F80F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3684-3E28-4CDB-A7F3-2C7888F0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77E0-9B78-4C5F-8CED-7ACA0DDF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40F2-CAC7-4DA5-8F16-0852D72E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FBCC-0B97-482A-B469-9DD76D95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99BF9-1E46-40A9-AC7C-5AA98F7F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A6C-EF3F-4C91-B762-F212C1F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6267-7B07-4B87-A99F-3BED9238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B718-FE3C-4512-B649-E5155B17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CC02-CC77-4F56-B3A2-B0DCB959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9BB4-B632-48C2-A806-EDFA866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C6C3-2F04-408C-9B67-6035FED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B0AA-0DAF-4123-B48E-736B718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0A6A6-1A17-4692-A021-82FFBF5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1AFE2-7DBB-4D95-9453-470B6F67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804A-E93F-4E4B-A588-1A16E805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DF129-11E3-418D-8301-2B5E8795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88D-A492-420F-8030-0C8C9491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259D3-F7D9-4C3A-A7F8-D3D8C1AC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7CA58-F87E-448F-8B7A-F3E7285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5118-E830-4732-A970-A484A5E1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38ABA-3937-404F-B6E2-CFB00619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8F51-6233-492A-9135-DB5E1AF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BC2EA-A258-40AB-B002-80A5AF1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B811-EFC5-4C5E-8FC0-8C2E593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4553-2049-48D5-AB15-710939B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DDE0-4C5A-44D3-9951-77F2C5E3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A443-EEDF-4988-8D0C-27D423B1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53A-90F8-4A1E-9665-EBE55E59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6F7C-8AB4-4354-85B7-4E5F0186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B699C-F336-4BA5-B7FB-8B518A36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6C827-823F-414F-81B2-DA9C62A5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A8B1-F288-4A42-B0F1-A5925043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2DE5-9C07-4F8C-9DB2-955314D0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7244-7100-4486-9249-05C090DD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D596-C9A5-43F4-8070-1C3F4FE9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F2B05-E751-4514-A269-8067EC7F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82129-59DF-430C-B767-4541E2C8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6872B-5566-4FDE-94FF-AE6EE50C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345-97E9-4889-9542-06CCB5E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812E2-695B-49A4-AD0E-FB9B10F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EFE8C-A961-4677-839D-A4E3039E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7DCAA-6034-4F5B-B517-E2E30568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9BC3-9B45-4BEE-8ACC-C45A3699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0D79-B2FE-4671-B173-F491893C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F9F6D-4E8A-4504-99A9-79C7D118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37028-12F1-41CA-A37E-49D2CAA0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F637E-931A-40FA-93CF-4C55CF65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3C12-910F-4C4D-B127-C53E3ED9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799B7-B4AC-4EF7-84C6-61CAE98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FDD-B8C8-4CD3-8F79-E5C5564D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E00C-1848-4CB6-A713-E9A894E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D59B3-D1CC-478E-937D-9540605B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D5E0-610B-40EE-8C30-AA00BD1C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6994-EE21-4420-868D-453362FC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F1FC-22C4-4B29-9997-F752E8A7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C68-104A-4426-A523-30F0D27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77A-0CFD-4181-8900-773DD6F1F5AB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24E9-9F96-4AA8-9773-1EB582EEF04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88E5-1DE7-4C15-85F8-8F5C1120C877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675A-1DBE-40FF-8B2C-390AB832CD52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F9B3-C19E-4B9C-B354-2DBD6606C733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2132-6A61-460E-9C6B-69C0726D6C50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0661-85C0-4BBA-AF05-7302F05CE412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3157560"/>
            <a:ext cx="808992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By: Bradley Melanson &amp; Derek Spenc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3" descr="gmrobotx-wide-community.jpg"/>
          <p:cNvPicPr/>
          <p:nvPr/>
        </p:nvPicPr>
        <p:blipFill>
          <a:blip r:embed="rId2"/>
          <a:stretch/>
        </p:blipFill>
        <p:spPr>
          <a:xfrm>
            <a:off x="642960" y="357120"/>
            <a:ext cx="3567240" cy="2548080"/>
          </a:xfrm>
          <a:prstGeom prst="rect">
            <a:avLst/>
          </a:prstGeom>
          <a:ln w="0">
            <a:noFill/>
          </a:ln>
        </p:spPr>
      </p:pic>
      <p:sp>
        <p:nvSpPr>
          <p:cNvPr id="306" name="Rectangular Callout 4"/>
          <p:cNvSpPr/>
          <p:nvPr/>
        </p:nvSpPr>
        <p:spPr>
          <a:xfrm>
            <a:off x="2214720" y="214200"/>
            <a:ext cx="1143000" cy="5000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00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rbel"/>
              </a:rPr>
              <a:t>Welc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100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5" dur="3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500040" y="1785960"/>
            <a:ext cx="8229600" cy="462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	</a:t>
            </a:r>
            <a:r>
              <a:rPr b="0" i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General Informatio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Dictionary Definition of Robot: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1) a machine that resembles a human and does mechanical, routine takes on comman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Origin: Czech, coined by Karel Capek in the play R.U.R. (1920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robots_z.jpg"/>
          <p:cNvPicPr/>
          <p:nvPr/>
        </p:nvPicPr>
        <p:blipFill>
          <a:blip r:embed="rId2"/>
          <a:stretch/>
        </p:blipFill>
        <p:spPr>
          <a:xfrm>
            <a:off x="5643720" y="4429080"/>
            <a:ext cx="31003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ight Triangle 3"/>
          <p:cNvSpPr/>
          <p:nvPr/>
        </p:nvSpPr>
        <p:spPr>
          <a:xfrm>
            <a:off x="0" y="1357200"/>
            <a:ext cx="9072720" cy="5500800"/>
          </a:xfrm>
          <a:prstGeom prst="rtTriangle">
            <a:avLst/>
          </a:prstGeom>
          <a:solidFill>
            <a:srgbClr val="0000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SC</a:t>
            </a:r>
            <a:r>
              <a:rPr b="1" lang="en-CA" sz="3200" spc="-1" strike="noStrike" u="sng">
                <a:solidFill>
                  <a:srgbClr val="000000"/>
                </a:solidFill>
                <a:uFillTx/>
                <a:latin typeface="Corbel"/>
              </a:rPr>
              <a:t>ARA: Selective Compliant Assembly Robot </a:t>
            </a:r>
            <a:r>
              <a:rPr b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The SCARA was des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igned in 1981 by Sankyo Seiki under the guidance of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Hiroshi Makino.  The SCA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RA was designed for packaging food and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repetitive car assembly. The ro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bot itself was designed to resemble a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human arm both in looks and mov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ement as to reach confined areas in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safety. The designed in on a single pede</a:t>
            </a: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stal mount and faster than the </a:t>
            </a: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original Cartesian System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4" descr="Images_Photos_pCobraAIB600.gif"/>
          <p:cNvPicPr/>
          <p:nvPr/>
        </p:nvPicPr>
        <p:blipFill>
          <a:blip r:embed="rId2"/>
          <a:stretch/>
        </p:blipFill>
        <p:spPr>
          <a:xfrm>
            <a:off x="1071720" y="4857840"/>
            <a:ext cx="2000160" cy="185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Images_Photos_pCobraAIB600.gif"/>
          <p:cNvPicPr/>
          <p:nvPr/>
        </p:nvPicPr>
        <p:blipFill>
          <a:blip r:embed="rId3"/>
          <a:stretch/>
        </p:blipFill>
        <p:spPr>
          <a:xfrm>
            <a:off x="4929120" y="0"/>
            <a:ext cx="254340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lowchart: Extract 3"/>
          <p:cNvSpPr/>
          <p:nvPr/>
        </p:nvSpPr>
        <p:spPr>
          <a:xfrm>
            <a:off x="0" y="1428840"/>
            <a:ext cx="9144000" cy="5429160"/>
          </a:xfrm>
          <a:prstGeom prst="flowChartExtract">
            <a:avLst/>
          </a:prstGeom>
          <a:solidFill>
            <a:srgbClr val="0000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85840" y="171468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 Russian Camera Equipm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nt Com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ny Filmotechnic.The Rainbow Camera Car Mount is a camera pla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form that en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bles the camera to move 60 degrees around the vehicle. This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ar mount is m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e from lightweight carbon fibre and is mounted to the front of t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he vehicle. The cam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a used for this mount is capable of wireless use and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used a special gyro stabili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zed remote. Since the camera is used on moving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vehicles it must have image 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abilizers so that the picture received isn't blu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rred or unbalan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- This car mount is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a rainbow camera 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mount but is a lesser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o the arc sty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car_mounts_projects_resize_104.JPG"/>
          <p:cNvPicPr/>
          <p:nvPr/>
        </p:nvPicPr>
        <p:blipFill>
          <a:blip r:embed="rId2"/>
          <a:stretch/>
        </p:blipFill>
        <p:spPr>
          <a:xfrm>
            <a:off x="4500720" y="3786120"/>
            <a:ext cx="4257360" cy="2838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6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6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L-Shape 4"/>
          <p:cNvSpPr/>
          <p:nvPr/>
        </p:nvSpPr>
        <p:spPr>
          <a:xfrm>
            <a:off x="0" y="1428840"/>
            <a:ext cx="3571920" cy="5429160"/>
          </a:xfrm>
          <a:custGeom>
            <a:avLst/>
            <a:gdLst>
              <a:gd name="textAreaLeft" fmla="*/ 0 w 3571920"/>
              <a:gd name="textAreaRight" fmla="*/ 1785960 w 3571920"/>
              <a:gd name="textAreaTop" fmla="*/ 0 h 5429160"/>
              <a:gd name="textAreaBottom" fmla="*/ 5429160 h 5429160"/>
            </a:gdLst>
            <a:ahLst/>
            <a:rect l="textAreaLeft" t="textAreaTop" r="textAreaRight" b="textAreaBottom"/>
            <a:pathLst>
              <a:path w="3571875" h="5429250">
                <a:moveTo>
                  <a:pt x="0" y="0"/>
                </a:moveTo>
                <a:lnTo>
                  <a:pt x="1785938" y="0"/>
                </a:lnTo>
                <a:lnTo>
                  <a:pt x="1785938" y="3643313"/>
                </a:lnTo>
                <a:lnTo>
                  <a:pt x="3571875" y="3643313"/>
                </a:lnTo>
                <a:lnTo>
                  <a:pt x="3571875" y="5429250"/>
                </a:lnTo>
                <a:lnTo>
                  <a:pt x="0" y="5429250"/>
                </a:lnTo>
                <a:close/>
              </a:path>
            </a:pathLst>
          </a:custGeom>
          <a:solidFill>
            <a:srgbClr val="00000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CA" sz="3200" spc="-1" strike="noStrike" u="sng">
                <a:solidFill>
                  <a:srgbClr val="ffffff"/>
                </a:solidFill>
                <a:uFillTx/>
                <a:latin typeface="Corbel"/>
              </a:rPr>
              <a:t>R2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R2 was 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created by GM, General Motors, and NASA. It was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develo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ped at the Johnson Space Center in Houston. The R2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unit ca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 lift 20 pounds per arm which is stated to be 4 times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what o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ther humanoid robots can lift. It has movable arms,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fingers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, and hands which also comes with opposable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thumb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s. R2 was made with the intension of further </a:t>
            </a:r>
            <a:r>
              <a:rPr b="0" lang="en-CA" sz="2400" spc="-1" strike="noStrike">
                <a:solidFill>
                  <a:srgbClr val="ffffff"/>
                </a:solidFill>
                <a:latin typeface="Corbel"/>
              </a:rPr>
              <a:t>explor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ation into outer space with less danger to astronau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5" descr="422804_medNASA_R2_610x406.jpg"/>
          <p:cNvPicPr/>
          <p:nvPr/>
        </p:nvPicPr>
        <p:blipFill>
          <a:blip r:embed="rId2"/>
          <a:stretch/>
        </p:blipFill>
        <p:spPr>
          <a:xfrm>
            <a:off x="5829480" y="0"/>
            <a:ext cx="3314520" cy="2143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1-nasagmcreate.jpg"/>
          <p:cNvPicPr/>
          <p:nvPr/>
        </p:nvPicPr>
        <p:blipFill>
          <a:blip r:embed="rId3"/>
          <a:stretch/>
        </p:blipFill>
        <p:spPr>
          <a:xfrm>
            <a:off x="4357800" y="5000760"/>
            <a:ext cx="2857320" cy="1724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1857 -0.06847 C -0.62829 -0.1115 -0.43802 -0.15452 -0.40746 -0.05228 C -0.37673 0.04996 -0.6434 0.40689 -0.63541 0.54545 C -0.62743 0.68401 -0.45329 0.78232 -0.35972 0.77955 C -0.26614 0.77677 -0.13229 0.65857 -0.07361 0.52926 C -0.01527 0.39995 -0.05763 0.08813 -0.00833 0.0037 C 0.04098 -0.08073 0.21962 0.02012 0.22257 0.02244 C 0.22535 0.02475 0.04653 0.02105 0.00938 0.01735 C -0.02743 0.01365 -0.01371 0.00671 -4.16667E-006 3.96715E-006 E">
                                      <p:cBhvr>
                                        <p:cTn id="117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http://news.cnet.com/8301-17912_3-10447375-72.html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filmotechnic.com/eng/equipment/57.html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en.wikipedia.org/wiki/SCARA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www.allaboutmotion.com/images/adept/Images_Photos_pCobraAIB600.gif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www.yamaha-motor.co.jp/global/news/2005/07/21/img/ykseries/pic_001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bob-cam.com/stefanbastian/image/project/car_mounts_projects_resize_104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news.cnet.com/i/bto/20100204/422804_medNASA_R2_610x406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cnelms.files.wordpress.com/2008/04/robots_z.jpg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en.wikipedia.org/wiki/Robo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Corbel"/>
              </a:rPr>
              <a:t>- http://dictionary.reference.com/browse/robot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3" descr=""/>
          <p:cNvPicPr/>
          <p:nvPr/>
        </p:nvPicPr>
        <p:blipFill>
          <a:blip r:embed="rId1"/>
          <a:stretch/>
        </p:blipFill>
        <p:spPr>
          <a:xfrm>
            <a:off x="2724120" y="1755720"/>
            <a:ext cx="2255760" cy="203040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4" descr=""/>
          <p:cNvPicPr/>
          <p:nvPr/>
        </p:nvPicPr>
        <p:blipFill>
          <a:blip r:embed="rId2"/>
          <a:stretch/>
        </p:blipFill>
        <p:spPr>
          <a:xfrm>
            <a:off x="2382840" y="1547640"/>
            <a:ext cx="5608800" cy="4567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0:55:43Z</dcterms:created>
  <dc:creator>Joseph Spencer</dc:creator>
  <dc:description/>
  <dc:language>en-US</dc:language>
  <cp:lastModifiedBy>Joseph Spencer</cp:lastModifiedBy>
  <dcterms:modified xsi:type="dcterms:W3CDTF">2010-02-08T05:10:25Z</dcterms:modified>
  <cp:revision>31</cp:revision>
  <dc:subject/>
  <dc:title>Robotics</dc:title>
</cp:coreProperties>
</file>